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F60E69-75CB-40E4-A74C-BA6A73C7C501}" type="slidenum">
              <a:rPr b="0" lang="es-E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tributos de los sprites: FlipX, FlipY,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704-D5ED-4A92-9295-E69379C9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8F3-EB6F-4A08-9BB8-851E1CC8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CE0-AAD7-4EFA-8980-30FCF5BF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389-4E7D-483F-A48C-931028CF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C1B-47CC-4B12-8CF6-CC1FC161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604-1A67-4A9D-B772-B5B69C4D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77F-EF1D-4075-9D95-6F34796A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8E9-9189-4201-98F0-8D414009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DB6-4141-402B-9B56-09C910AD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F41-6498-4D25-AC8C-A5F5B5E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301-9829-463C-B92E-D119731B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9CD-92AB-4B38-9DA5-C5AEA0F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069E-F261-4C6C-BE68-936D2C89C0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836280"/>
            <a:ext cx="633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Universidad Carlos III de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1628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uela Politécnica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geniería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yecto Fin de Carr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48360" y="5805360"/>
            <a:ext cx="378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umno: Victor García Gonzá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utor: Jesús Carretero Pé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300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ciembr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93372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Diseño y Desarrollo de un emulador de la consola portátil Game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pa de direcciones de 1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6 KB del banco 0 del cart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6 KB del banco 1-n del cart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8 KB de V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8 KB de RAM del cart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8 KB de W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28 direcciones para entrada /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28 bytes de H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rias zonas no util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Ví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ntalla de 160x144 píx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uffer de 255x255 dividida en 32x32 “tiles” de 8x8 cada 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4 niveles de 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3 c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p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 8x8 u 8x16 píx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trib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Cartuc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becera con metadatos en el primer blo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 o n bloques de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loque 0 siempre direcci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lección de bloque mediante escritura en regiones de sólo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 o m bloques de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able o desactiv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lección de bloque análogo a la 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pos: MBC0, MBC1, MBC2, MBC3 y MBC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maño máximo de 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 o sin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características (RTC, Rumble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Interfaz 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para iniciar, pausar, reanudar o detener la em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rga de cartuchos desde fich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Zoom desde 1x (160x144) hasta 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sola de dep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uestra y modifica el estado de registros, interrupciones, flags y bo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ermite ver volcados de regiones de memoria y modificar sus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ntos de interru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formación sobre la ejecución de cada i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Presentación y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eño arquitect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Tecnología empl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mostración de la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Conclusiones y trabajos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Diseño arquitec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rquitectura person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309760" y="2463120"/>
            <a:ext cx="4572000" cy="4001400"/>
            <a:chOff x="2309760" y="2463120"/>
            <a:chExt cx="4572000" cy="4001400"/>
          </a:xfrm>
        </p:grpSpPr>
        <p:sp>
          <p:nvSpPr>
            <p:cNvPr id="97" name=""/>
            <p:cNvSpPr/>
            <p:nvPr/>
          </p:nvSpPr>
          <p:spPr>
            <a:xfrm>
              <a:off x="2309760" y="2463120"/>
              <a:ext cx="4572000" cy="40014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7280" y="4178520"/>
              <a:ext cx="4115880" cy="2171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37280" y="2692080"/>
              <a:ext cx="3201480" cy="1371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10040" y="3377880"/>
              <a:ext cx="114120" cy="228600"/>
            </a:xfrm>
            <a:prstGeom prst="upArrow">
              <a:avLst>
                <a:gd name="adj1" fmla="val 50000"/>
                <a:gd name="adj2" fmla="val 50079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81440" y="2806200"/>
              <a:ext cx="25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nterfaz Gráfica de Usuari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52480" y="4406760"/>
              <a:ext cx="2286360" cy="1829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52680" y="3377880"/>
              <a:ext cx="228960" cy="1371240"/>
            </a:xfrm>
            <a:prstGeom prst="downArrow">
              <a:avLst>
                <a:gd name="adj1" fmla="val 59000"/>
                <a:gd name="adj2" fmla="val 11257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3240" y="2806200"/>
              <a:ext cx="6858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SGB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10040" y="4178520"/>
              <a:ext cx="7992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110040" y="4749480"/>
              <a:ext cx="1715400" cy="342720"/>
              <a:chOff x="3110040" y="4749480"/>
              <a:chExt cx="1715400" cy="342720"/>
            </a:xfrm>
          </p:grpSpPr>
          <p:sp>
            <p:nvSpPr>
              <p:cNvPr id="107" name=""/>
              <p:cNvSpPr/>
              <p:nvPr/>
            </p:nvSpPr>
            <p:spPr>
              <a:xfrm>
                <a:off x="3110040" y="4749480"/>
                <a:ext cx="171540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23800" y="4817880"/>
                <a:ext cx="1486440" cy="2059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Arial"/>
                  </a:rPr>
                  <a:t>Procesad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110040" y="5321160"/>
              <a:ext cx="1030680" cy="342720"/>
              <a:chOff x="3110040" y="5321160"/>
              <a:chExt cx="1030680" cy="342720"/>
            </a:xfrm>
          </p:grpSpPr>
          <p:sp>
            <p:nvSpPr>
              <p:cNvPr id="110" name=""/>
              <p:cNvSpPr/>
              <p:nvPr/>
            </p:nvSpPr>
            <p:spPr>
              <a:xfrm>
                <a:off x="3110040" y="5321160"/>
                <a:ext cx="103068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78440" y="5389560"/>
                <a:ext cx="893160" cy="2059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Arial"/>
                  </a:rPr>
                  <a:t>Registro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052960" y="4406760"/>
              <a:ext cx="1486080" cy="1829160"/>
            </a:xfrm>
            <a:custGeom>
              <a:avLst/>
              <a:gdLst>
                <a:gd name="textAreaLeft" fmla="*/ 72360 w 1486080"/>
                <a:gd name="textAreaRight" fmla="*/ 1413720 w 1486080"/>
                <a:gd name="textAreaTop" fmla="*/ 72360 h 1829160"/>
                <a:gd name="textAreaBottom" fmla="*/ 1756800 h 1829160"/>
              </a:gdLst>
              <a:ahLst/>
              <a:rect l="textAreaLeft" t="textAreaTop" r="textAreaRight" b="textAreaBottom"/>
              <a:pathLst>
                <a:path w="21600" h="26585">
                  <a:moveTo>
                    <a:pt x="3600" y="0"/>
                  </a:moveTo>
                  <a:arcTo wR="3600" hR="3600" stAng="16200000" swAng="-5400000"/>
                  <a:lnTo>
                    <a:pt x="0" y="22985"/>
                  </a:lnTo>
                  <a:arcTo wR="3600" hR="3600" stAng="10800000" swAng="-5400000"/>
                  <a:lnTo>
                    <a:pt x="18000" y="265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95680" y="440676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erifér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24160" y="440676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767320" y="3035160"/>
              <a:ext cx="914400" cy="342720"/>
              <a:chOff x="2767320" y="3035160"/>
              <a:chExt cx="914400" cy="342720"/>
            </a:xfrm>
          </p:grpSpPr>
          <p:sp>
            <p:nvSpPr>
              <p:cNvPr id="116" name=""/>
              <p:cNvSpPr/>
              <p:nvPr/>
            </p:nvSpPr>
            <p:spPr>
              <a:xfrm>
                <a:off x="2767320" y="3035160"/>
                <a:ext cx="91440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27800" y="3103560"/>
                <a:ext cx="792360" cy="2059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Arial"/>
                  </a:rPr>
                  <a:t>Pantall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681720" y="3148920"/>
              <a:ext cx="342360" cy="114480"/>
            </a:xfrm>
            <a:prstGeom prst="leftRightArrow">
              <a:avLst>
                <a:gd name="adj1" fmla="val 50000"/>
                <a:gd name="adj2" fmla="val 5953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767320" y="3606840"/>
              <a:ext cx="914400" cy="342720"/>
              <a:chOff x="2767320" y="3606840"/>
              <a:chExt cx="914400" cy="342720"/>
            </a:xfrm>
          </p:grpSpPr>
          <p:sp>
            <p:nvSpPr>
              <p:cNvPr id="120" name=""/>
              <p:cNvSpPr/>
              <p:nvPr/>
            </p:nvSpPr>
            <p:spPr>
              <a:xfrm>
                <a:off x="2767320" y="3606840"/>
                <a:ext cx="91440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27800" y="3675240"/>
                <a:ext cx="792360" cy="2059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Arial"/>
                  </a:rPr>
                  <a:t>Gráfico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767320" y="5779080"/>
              <a:ext cx="1942920" cy="340560"/>
              <a:chOff x="2767320" y="5779080"/>
              <a:chExt cx="1942920" cy="340560"/>
            </a:xfrm>
          </p:grpSpPr>
          <p:sp>
            <p:nvSpPr>
              <p:cNvPr id="123" name=""/>
              <p:cNvSpPr/>
              <p:nvPr/>
            </p:nvSpPr>
            <p:spPr>
              <a:xfrm>
                <a:off x="2767320" y="5779080"/>
                <a:ext cx="1942920" cy="34056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6560" y="5847120"/>
                <a:ext cx="1683360" cy="204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Arial"/>
                  </a:rPr>
                  <a:t>Memor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509800" y="5321160"/>
              <a:ext cx="914400" cy="342000"/>
              <a:chOff x="5509800" y="5321160"/>
              <a:chExt cx="914400" cy="342000"/>
            </a:xfrm>
          </p:grpSpPr>
          <p:sp>
            <p:nvSpPr>
              <p:cNvPr id="126" name=""/>
              <p:cNvSpPr/>
              <p:nvPr/>
            </p:nvSpPr>
            <p:spPr>
              <a:xfrm>
                <a:off x="5509800" y="5321160"/>
                <a:ext cx="914400" cy="34200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70280" y="5389560"/>
                <a:ext cx="792360" cy="205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Arial"/>
                  </a:rPr>
                  <a:t>Debu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167080" y="4749480"/>
              <a:ext cx="1256760" cy="342720"/>
              <a:chOff x="5167080" y="4749480"/>
              <a:chExt cx="1256760" cy="34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5167080" y="4749480"/>
                <a:ext cx="125676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50600" y="4817880"/>
                <a:ext cx="1089000" cy="2059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Arial"/>
                  </a:rPr>
                  <a:t>Teclad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509800" y="5779080"/>
              <a:ext cx="914400" cy="340560"/>
              <a:chOff x="5509800" y="5779080"/>
              <a:chExt cx="914400" cy="3405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09800" y="5779080"/>
                <a:ext cx="914400" cy="34056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70280" y="5847120"/>
                <a:ext cx="792360" cy="204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Arial"/>
                  </a:rPr>
                  <a:t>Cartuch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024440" y="3035160"/>
              <a:ext cx="1599480" cy="344160"/>
              <a:chOff x="4024440" y="3035160"/>
              <a:chExt cx="1599480" cy="344160"/>
            </a:xfrm>
          </p:grpSpPr>
          <p:sp>
            <p:nvSpPr>
              <p:cNvPr id="135" name=""/>
              <p:cNvSpPr/>
              <p:nvPr/>
            </p:nvSpPr>
            <p:spPr>
              <a:xfrm>
                <a:off x="4024440" y="3035160"/>
                <a:ext cx="1599480" cy="34416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30640" y="3103920"/>
                <a:ext cx="1386000" cy="2070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Arial"/>
                  </a:rPr>
                  <a:t>GU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167080" y="3377880"/>
              <a:ext cx="228960" cy="1371240"/>
            </a:xfrm>
            <a:prstGeom prst="downArrow">
              <a:avLst>
                <a:gd name="adj1" fmla="val 59556"/>
                <a:gd name="adj2" fmla="val 10785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52680" y="5092200"/>
              <a:ext cx="227520" cy="689400"/>
            </a:xfrm>
            <a:prstGeom prst="downArrow">
              <a:avLst>
                <a:gd name="adj1" fmla="val 50000"/>
                <a:gd name="adj2" fmla="val 757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4710600" y="5892840"/>
              <a:ext cx="799200" cy="113760"/>
            </a:xfrm>
            <a:prstGeom prst="leftArrow">
              <a:avLst>
                <a:gd name="adj1" fmla="val 50000"/>
                <a:gd name="adj2" fmla="val 1756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2400" y="5092200"/>
              <a:ext cx="114840" cy="229320"/>
            </a:xfrm>
            <a:prstGeom prst="downArrow">
              <a:avLst>
                <a:gd name="adj1" fmla="val 50000"/>
                <a:gd name="adj2" fmla="val 4992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410400">
              <a:off x="4344120" y="5307840"/>
              <a:ext cx="1028520" cy="113760"/>
            </a:xfrm>
            <a:prstGeom prst="leftArrow">
              <a:avLst>
                <a:gd name="adj1" fmla="val 50000"/>
                <a:gd name="adj2" fmla="val 22602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53240" y="5092200"/>
              <a:ext cx="113400" cy="229320"/>
            </a:xfrm>
            <a:prstGeom prst="upDownArrow">
              <a:avLst>
                <a:gd name="adj1" fmla="val 50000"/>
                <a:gd name="adj2" fmla="val 4025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8840" y="5435280"/>
              <a:ext cx="570960" cy="114480"/>
            </a:xfrm>
            <a:prstGeom prst="leftRightArrow">
              <a:avLst>
                <a:gd name="adj1" fmla="val 50000"/>
                <a:gd name="adj2" fmla="val 9928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81440" y="3949560"/>
              <a:ext cx="113760" cy="1829160"/>
            </a:xfrm>
            <a:prstGeom prst="downArrow">
              <a:avLst>
                <a:gd name="adj1" fmla="val 58889"/>
                <a:gd name="adj2" fmla="val 1529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Presentación y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iseño arquitect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cnología empl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mostración de la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Conclusiones y trabajos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nguaje de programación: C#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ataforma de desarrollo: Mono + GTK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cumentación del código: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Presentación y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iseño arquitect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Tecnología empl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mostración de la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Conclusiones y trabajos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Demostración de la apl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Juegos comer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per Mario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kemon Rojo/Az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nal Fantasy Legen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132000" y="4508640"/>
            <a:ext cx="1946520" cy="2158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948360" y="1628640"/>
            <a:ext cx="2013120" cy="2233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1946520" cy="2159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716360" y="1628640"/>
            <a:ext cx="201132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324000" y="3716280"/>
            <a:ext cx="1946160" cy="216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5867280" y="4076640"/>
            <a:ext cx="2011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sentación y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iseño arquitect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Tecnología empl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mostración de la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Conclusiones y trabajos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Presentación y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iseño arquitect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Tecnología empl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mostración de la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clusiones y trabajos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Conclusiones y trabajos futu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clus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ulación de una arquitectura hardware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ulación de la consola portátil Game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de la em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ermite comprender el funcionamiento de una arquitectura hardware sencilla con una aplicación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Conclusiones y trabajos futu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bajos futu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porte para más tipos de cart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timización de la e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porte para GameBoy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tros periféricos (Cable Link, SGB o GameBoy Pr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84000" y="836280"/>
            <a:ext cx="633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Universidad Carlos III de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484360" y="1628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uela Politécnica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geniería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yecto Fin de Carr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48360" y="5805360"/>
            <a:ext cx="378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umno: Victor García Gonzá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utor: Jesús Carretero Pé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09300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ciembr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393372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Diseño y Desarrollo de un emulador de la consola portátil Game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resentación y 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mulador funcional de la arquitectura hardware de una videoconsola portá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otiv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to de recrear una máquina antigua en una mod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zar el software de arquitecturas hardware ya no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arrollar nuevo software para esa cons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Presentación y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iseño arquitect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Tecnología empl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mostración de la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Conclusiones y trabajos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ular el procesador de 8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ular el sistema de memoria y de entrada / sa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ular la pantalla y el proceso de dib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ar la em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sualizar el proceso de emulación en tiemp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Presentación y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iseño arquitect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Tecnología emple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Demostración de la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77777"/>
                </a:solidFill>
                <a:latin typeface="Tahoma"/>
              </a:rPr>
              <a:t>Conclusiones y trabajos fut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Descripción del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ard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cesador de 8 bits basado en el Z80 de Z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istros de 8 y 16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recciones de memoria de 16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apa de memoria y Entrada/Salida compar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terru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o hard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rtuchos de varios 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clado con 8 bo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nterfaz Grá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sola de depuración en modo 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roces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cesador de 8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 registros reales de 8 bits y 3 registros de 16 bits incluyendo PC y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 registros virtuales de 16 bits y 3 de 8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 flags de estado (zero, carry, half-carry y add/substr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99 instrucciones de hasta 3 bytes de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4 tipos de instrucciones nuevas (LDD, LDI, SWAP, STO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3 instrucciones reubic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chas instrucciones extendidas eliminadas (registros índice IX e IY, entrada/salida, exchang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code CB exte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Interrup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blank o refresco ver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CDC o coincidencia de l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imer Ove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locidad configurable en 4 m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rial Transfer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ansferencias por el puerto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igh-to-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lsación de bo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1:28:28Z</dcterms:created>
  <dc:creator>Victor Garcia Gonzalez</dc:creator>
  <dc:description/>
  <cp:keywords/>
  <dc:language>en-US</dc:language>
  <cp:lastModifiedBy>Jaggil</cp:lastModifiedBy>
  <dcterms:modified xsi:type="dcterms:W3CDTF">2007-01-12T14:24:30Z</dcterms:modified>
  <cp:revision>31</cp:revision>
  <dc:subject/>
  <dc:title>Universidad Carlos III de Madri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43082</vt:lpwstr>
  </property>
</Properties>
</file>